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A6ED-FAA0-4317-81C6-8DE27F6C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7FC3-5EB3-49F4-8656-70F22F3C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A10B-BDDD-47EE-B2C9-C23A06C91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4F7C-FCA7-490E-86A3-53FFDB820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74EC-0063-4A0F-9687-BD17F497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C0B9-42B2-4652-87B5-E0A0CF13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8631-98A6-4247-90DB-A2608E4C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F5B6-0D77-4874-8426-BDAFF102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A428-B3B5-4B76-8DAC-AFD115D4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9350-8163-4872-BFEF-E7514FEF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B728-B004-4319-9104-8107B9B3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9287-D9C5-435C-9CEF-07B097B7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e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0930-5DB5-4633-94C1-2FA6419F2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e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low Solid Italic"/>
              </a:rPr>
              <a:t>The Coordinate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ot points on a coordinate pl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e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ot the point (-2,-3) with a orange d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486560" cy="428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e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dr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ur regions on a coordinate plane are called “quadran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2743200"/>
            <a:ext cx="5219640" cy="2990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700240" y="29354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56320" y="28591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32280" y="47642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76560" y="46879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e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the signs to find the Quadr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,P)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,N)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,P)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,N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0" y="25146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38680" y="34290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55240" y="17524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53080" y="2627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05160" y="26272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28840" y="377028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53080" y="37702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10040" y="1600200"/>
            <a:ext cx="209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drant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10040" y="2209680"/>
            <a:ext cx="237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drant 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2819520"/>
            <a:ext cx="238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drant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09680" y="34290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drant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e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a point in Quadrant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81080" y="2590920"/>
            <a:ext cx="522000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e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a point in Quadran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81080" y="2666880"/>
            <a:ext cx="522000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e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a point in Quadrant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81080" y="2743200"/>
            <a:ext cx="522000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e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a point in Quadran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752480" y="2514600"/>
            <a:ext cx="522000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e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planes have an x-axis, y-axis, and an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s on a Coordinate plane are identified with an ordered pair. (x,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ordinate plane has four regions called “quadran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e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ordinate Plane ha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6877080" cy="3940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499280" y="2133720"/>
            <a:ext cx="23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ertical number li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ed the “y-axi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92920" y="4075200"/>
            <a:ext cx="232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Horizontal numb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 called the x-ax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4648320"/>
            <a:ext cx="244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33720" y="4114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054800">
            <a:off x="3352680" y="3886200"/>
            <a:ext cx="852480" cy="733320"/>
          </a:xfrm>
          <a:custGeom>
            <a:avLst/>
            <a:gdLst>
              <a:gd name="textAreaLeft" fmla="*/ 284040 w 852480"/>
              <a:gd name="textAreaRight" fmla="*/ 730440 w 852480"/>
              <a:gd name="textAreaTop" fmla="*/ 422280 h 733320"/>
              <a:gd name="textAreaBottom" fmla="*/ 628200 h 7333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e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 the Origin with a green do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1820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e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 the x-axis with a blue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6953040" cy="39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e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 the y-axis with a red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1820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e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dered 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oint on a coordinate plane corresponds to a ordered p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number is the x-coordin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ond is the y-coordi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as (x,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e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182000" cy="4114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486400" y="3276720"/>
            <a:ext cx="155520" cy="155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1880" y="2895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31240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,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68480" y="2362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5880" y="5181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4480" y="4608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64120" y="55627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2,-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54280" y="21337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5,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36120" y="44956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,-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2286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5638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2940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e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34280" cy="4202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705720" y="32004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66880" y="2895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4191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238880" y="5638680"/>
            <a:ext cx="22860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6400" y="2590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72160" y="4303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91680" y="2855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224840" y="5218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e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ot the point (3,2) with a pink d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486920" cy="4289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2:24:23Z</dcterms:created>
  <dc:creator>JRatliff</dc:creator>
  <dc:description/>
  <dc:language>en-US</dc:language>
  <cp:lastModifiedBy>JRatliff</cp:lastModifiedBy>
  <dcterms:modified xsi:type="dcterms:W3CDTF">2008-10-20T19:23:54Z</dcterms:modified>
  <cp:revision>2</cp:revision>
  <dc:subject/>
  <dc:title>Slide 1</dc:title>
</cp:coreProperties>
</file>